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F501-D81E-46B1-8054-F50D1017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795D-8B12-491E-9E2E-50B447B7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1873-687B-4591-A7CF-395A0FBB7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0D88-CEA0-4FDB-BB19-5FB8B1DF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DD05-347B-4D9B-AF0F-0FA80B6C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36A9-60AB-4241-B359-D8A97B95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0EC7-18D9-4FC8-8718-8B9EA2B4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55F5-2CDE-4E6B-BE52-570F6D4C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3DA2-5B4A-4AF5-AF01-E57201B5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B980-7311-48DA-A6A2-79B96B20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5976-9FAE-4C15-B305-97C1A87A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5D96-8E98-4F7A-9036-4DB9250D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1483-6206-4D61-8CEE-BF753C7C6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Prayer of Confession (SLD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Merciful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ur maker and our judg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have sinned against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ought, word, and de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have not loved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our whole hear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have not loved our neighbou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ourselve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repent, and are sor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all our si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ather, forgiv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trengthen 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love and obey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newness of lif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Jesus Christ our Lord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he leader says a scripture sentence, and then s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ar then Christ’s word of gr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 u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Your sins are forgiven.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anks be to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Mark 2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6095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Prayer © 1999, </a:t>
            </a:r>
            <a:r>
              <a:rPr b="0" i="1" lang="en-US" sz="1800" spc="-1" strike="noStrike">
                <a:solidFill>
                  <a:srgbClr val="bbe0e3"/>
                </a:solidFill>
                <a:latin typeface="Arial Narrow"/>
              </a:rPr>
              <a:t>An Australian Prayer 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0:08:27Z</dcterms:created>
  <dc:creator>Anon Anon</dc:creator>
  <dc:description/>
  <dc:language>en-US</dc:language>
  <cp:lastModifiedBy>Anon Anon</cp:lastModifiedBy>
  <dcterms:modified xsi:type="dcterms:W3CDTF">2005-08-16T04:22:44Z</dcterms:modified>
  <cp:revision>15</cp:revision>
  <dc:subject/>
  <dc:title>PowerPoint Presentation</dc:title>
</cp:coreProperties>
</file>